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797B-252E-4699-B26A-97ADB505A4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5F07-555D-49CD-8FF5-845A824B19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FF96-908F-47AD-AAF1-8DBB2416FD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AC9-6941-4763-B045-0707FC4B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713-99A1-4E26-94EF-EF4AF2D8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BA5-21DA-4F34-9022-B9EB95DE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2F1-C83A-40C1-89CB-A108C13A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0720-069C-4BDE-A076-DC667975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F840-F884-4BD3-B161-7677EA34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857D-6FA8-47ED-A535-20EFEB2A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7378-6937-40E2-BA58-5860A92F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110D-D552-4949-97CE-C64C18CE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D711-01F5-4D87-8678-895DFAAF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D032-8EBF-448A-AA16-6FD6DDAF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92F-39A2-4B17-AA54-C8F0E84F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75CE-C35B-47A0-B8C1-58D43D60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3A19-442D-4063-BD5E-03C0F639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0AE5-423F-4B6E-AD2F-BC5F4DE4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8857-D6DE-43AF-B25E-4B700084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C040-6CAD-4B9D-9EF1-F713DF9D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8C5E5-9A3C-4FC5-A0EA-23F15A48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86C7-6EF4-40B2-A588-4B9B43C4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24BC2-0353-470D-B973-7F2074B1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02239-F871-4383-94DB-E52F83F1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EA535-65C5-49DF-87E2-E1F9374E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F65-B940-4A56-A274-C4561B9D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5B22-089B-4C5D-8FED-5B7E473B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2DE42-F46E-4357-920E-A8A6F6C0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C0C19-DBEC-44B6-83CD-49601178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1E9F0-C2F6-431A-A24C-C81F3AA4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F44FA-16F6-4E3A-B8A0-C159E739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8EA0B-0251-4AC4-9FF1-863F5F62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4FE37-6A97-4CE8-AFB3-EEA3B786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DFDA-55A0-4D01-85D9-C8E44098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B81-2BEF-473B-94F8-62FA8D91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14B-4898-4494-9FCB-9AB0E0DE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87D-FAAF-47B8-81FC-BB08B9A6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FC3-EA57-4E19-BC75-FDD74703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B53-09D8-4F59-9DBB-2326C5B2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FEFA-6DC5-4F6B-A4A2-E66B78377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FADD-2447-497C-A5E7-C3A3E8A485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835B-3182-4281-8751-49F834EE84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2.xml"/><Relationship Id="rId17" Type="http://schemas.openxmlformats.org/officeDocument/2006/relationships/slide" Target="slide13.xml"/><Relationship Id="rId18" Type="http://schemas.openxmlformats.org/officeDocument/2006/relationships/slide" Target="slide14.xml"/><Relationship Id="rId19" Type="http://schemas.openxmlformats.org/officeDocument/2006/relationships/slide" Target="slide15.xml"/><Relationship Id="rId20" Type="http://schemas.openxmlformats.org/officeDocument/2006/relationships/slide" Target="slide16.xml"/><Relationship Id="rId21" Type="http://schemas.openxmlformats.org/officeDocument/2006/relationships/slide" Target="slide17.xml"/><Relationship Id="rId22" Type="http://schemas.openxmlformats.org/officeDocument/2006/relationships/slide" Target="slide3.xml"/><Relationship Id="rId23" Type="http://schemas.openxmlformats.org/officeDocument/2006/relationships/slide" Target="slide4.xml"/><Relationship Id="rId24" Type="http://schemas.openxmlformats.org/officeDocument/2006/relationships/slide" Target="slide6.xml"/><Relationship Id="rId25" Type="http://schemas.openxmlformats.org/officeDocument/2006/relationships/slide" Target="slide7.xml"/><Relationship Id="rId26" Type="http://schemas.openxmlformats.org/officeDocument/2006/relationships/slide" Target="slide28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5.xml"/><Relationship Id="rId8" Type="http://schemas.openxmlformats.org/officeDocument/2006/relationships/slide" Target="slide36.xml"/><Relationship Id="rId9" Type="http://schemas.openxmlformats.org/officeDocument/2006/relationships/slide" Target="slide37.xml"/><Relationship Id="rId10" Type="http://schemas.openxmlformats.org/officeDocument/2006/relationships/slide" Target="slide38.xml"/><Relationship Id="rId11" Type="http://schemas.openxmlformats.org/officeDocument/2006/relationships/slide" Target="slide39.xml"/><Relationship Id="rId12" Type="http://schemas.openxmlformats.org/officeDocument/2006/relationships/slide" Target="slide45.xml"/><Relationship Id="rId13" Type="http://schemas.openxmlformats.org/officeDocument/2006/relationships/slide" Target="slide46.xml"/><Relationship Id="rId14" Type="http://schemas.openxmlformats.org/officeDocument/2006/relationships/slide" Target="slide47.xml"/><Relationship Id="rId15" Type="http://schemas.openxmlformats.org/officeDocument/2006/relationships/slide" Target="slide48.xml"/><Relationship Id="rId16" Type="http://schemas.openxmlformats.org/officeDocument/2006/relationships/slide" Target="slide49.xml"/><Relationship Id="rId17" Type="http://schemas.openxmlformats.org/officeDocument/2006/relationships/slide" Target="slide40.xml"/><Relationship Id="rId18" Type="http://schemas.openxmlformats.org/officeDocument/2006/relationships/slide" Target="slide41.xml"/><Relationship Id="rId19" Type="http://schemas.openxmlformats.org/officeDocument/2006/relationships/slide" Target="slide42.xml"/><Relationship Id="rId20" Type="http://schemas.openxmlformats.org/officeDocument/2006/relationships/slide" Target="slide43.xml"/><Relationship Id="rId21" Type="http://schemas.openxmlformats.org/officeDocument/2006/relationships/slide" Target="slide44.xml"/><Relationship Id="rId22" Type="http://schemas.openxmlformats.org/officeDocument/2006/relationships/slide" Target="slide50.xml"/><Relationship Id="rId23" Type="http://schemas.openxmlformats.org/officeDocument/2006/relationships/slide" Target="slide51.xml"/><Relationship Id="rId24" Type="http://schemas.openxmlformats.org/officeDocument/2006/relationships/slide" Target="slide52.xml"/><Relationship Id="rId25" Type="http://schemas.openxmlformats.org/officeDocument/2006/relationships/slide" Target="slide53.xml"/><Relationship Id="rId26" Type="http://schemas.openxmlformats.org/officeDocument/2006/relationships/slide" Target="slide54.xml"/><Relationship Id="rId27" Type="http://schemas.openxmlformats.org/officeDocument/2006/relationships/slide" Target="slide55.xml"/><Relationship Id="rId28" Type="http://schemas.openxmlformats.org/officeDocument/2006/relationships/slideLayout" Target="../slideLayouts/slideLayout25.xml"/><Relationship Id="rId29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6"/>
          <p:cNvSpPr/>
          <p:nvPr/>
        </p:nvSpPr>
        <p:spPr>
          <a:xfrm>
            <a:off x="4356000" y="1557360"/>
            <a:ext cx="478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Ты, человек, любя природу, хоть иногда ее жал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В увеселительных походах не растопчи ее полей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Не жги ее напропалую и не исчерпывай до дн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И помни истину простую: нас мало, а она – одна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WordArt 10"/>
          <p:cNvSpPr txBox="1"/>
          <p:nvPr/>
        </p:nvSpPr>
        <p:spPr>
          <a:xfrm>
            <a:off x="2124000" y="4076640"/>
            <a:ext cx="5040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оя иг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4" descr="wallpaper1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"/>
          <p:cNvSpPr/>
          <p:nvPr/>
        </p:nvSpPr>
        <p:spPr>
          <a:xfrm>
            <a:off x="1000080" y="364320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акой паук умеет строи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ебе дом под водой из воздух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785880" y="2143080"/>
            <a:ext cx="714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Паук - серебрян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Выгнутая вправо стрелка 5">
            <a:hlinkClick r:id="rId2" action="ppaction://hlinksldjump"/>
          </p:cNvPr>
          <p:cNvSpPr/>
          <p:nvPr/>
        </p:nvSpPr>
        <p:spPr>
          <a:xfrm>
            <a:off x="8072280" y="5786280"/>
            <a:ext cx="714600" cy="642960"/>
          </a:xfrm>
          <a:custGeom>
            <a:avLst/>
            <a:gdLst>
              <a:gd name="textAreaLeft" fmla="*/ 95760 w 714600"/>
              <a:gd name="textAreaRight" fmla="*/ 618840 w 714600"/>
              <a:gd name="textAreaTop" fmla="*/ 100440 h 642960"/>
              <a:gd name="textAreaBottom" fmla="*/ 46224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12253"/>
                <a:lnTo>
                  <a:pt x="4860" y="21427"/>
                </a:lnTo>
                <a:lnTo>
                  <a:pt x="0" y="16200"/>
                </a:lnTo>
                <a:lnTo>
                  <a:pt x="4860" y="10627"/>
                </a:lnTo>
                <a:lnTo>
                  <a:pt x="4860" y="13327"/>
                </a:lnTo>
                <a:arcTo wR="21600" hR="6750" stAng="3212253" swAng="-2746267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4" descr="wallpaper1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214200" y="364320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акой представитель кошачьи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умеет ловко подражать голосу оленя, заманивая его. Он же может переплывать большие рек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3071880" y="2428920"/>
            <a:ext cx="350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Тиг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Выгнутая вправо стрелка 6">
            <a:hlinkClick r:id="rId2" action="ppaction://hlinksldjump"/>
          </p:cNvPr>
          <p:cNvSpPr/>
          <p:nvPr/>
        </p:nvSpPr>
        <p:spPr>
          <a:xfrm>
            <a:off x="8001000" y="5857920"/>
            <a:ext cx="714240" cy="714240"/>
          </a:xfrm>
          <a:custGeom>
            <a:avLst/>
            <a:gdLst>
              <a:gd name="textAreaLeft" fmla="*/ 95400 w 714240"/>
              <a:gd name="textAreaRight" fmla="*/ 618840 w 714240"/>
              <a:gd name="textAreaTop" fmla="*/ 111600 h 714240"/>
              <a:gd name="textAreaBottom" fmla="*/ 5133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26114"/>
                <a:lnTo>
                  <a:pt x="5400" y="21386"/>
                </a:lnTo>
                <a:lnTo>
                  <a:pt x="0" y="16200"/>
                </a:lnTo>
                <a:lnTo>
                  <a:pt x="5400" y="10586"/>
                </a:lnTo>
                <a:lnTo>
                  <a:pt x="5400" y="13286"/>
                </a:lnTo>
                <a:arcTo wR="21600" hR="6750" stAng="3026114" swAng="-256012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4" descr="wallpaper1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357120" y="3357720"/>
            <a:ext cx="842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акие рыбы выделяют пере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ном слизь, покрывая своё тело, как панцирем, а проснувшись, поедают своё одеяние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1857240" y="242892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Рыба - попуга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Выгнутая вправо стрелка 5">
            <a:hlinkClick r:id="rId2" action="ppaction://hlinksldjump"/>
          </p:cNvPr>
          <p:cNvSpPr/>
          <p:nvPr/>
        </p:nvSpPr>
        <p:spPr>
          <a:xfrm>
            <a:off x="7858080" y="5572080"/>
            <a:ext cx="857160" cy="785880"/>
          </a:xfrm>
          <a:custGeom>
            <a:avLst/>
            <a:gdLst>
              <a:gd name="textAreaLeft" fmla="*/ 114840 w 857160"/>
              <a:gd name="textAreaRight" fmla="*/ 742320 w 857160"/>
              <a:gd name="textAreaTop" fmla="*/ 122760 h 785880"/>
              <a:gd name="textAreaBottom" fmla="*/ 5648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80375"/>
                <a:lnTo>
                  <a:pt x="4950" y="21420"/>
                </a:lnTo>
                <a:lnTo>
                  <a:pt x="0" y="16200"/>
                </a:lnTo>
                <a:lnTo>
                  <a:pt x="4950" y="10620"/>
                </a:lnTo>
                <a:lnTo>
                  <a:pt x="4950" y="13320"/>
                </a:lnTo>
                <a:arcTo wR="21600" hR="6750" stAng="3180375" swAng="-2714389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2" descr="Victoria-Falls-Zimbabwe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"/>
          <p:cNvSpPr/>
          <p:nvPr/>
        </p:nvSpPr>
        <p:spPr>
          <a:xfrm>
            <a:off x="642960" y="4214880"/>
            <a:ext cx="585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6600"/>
                </a:solidFill>
                <a:latin typeface="Times New Roman"/>
              </a:rPr>
              <a:t>Любитель очень рано встават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2571840" y="292896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Жавороно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Выгнутая вправо стрелка 5">
            <a:hlinkClick r:id="rId2" action="ppaction://hlinksldjump"/>
          </p:cNvPr>
          <p:cNvSpPr/>
          <p:nvPr/>
        </p:nvSpPr>
        <p:spPr>
          <a:xfrm>
            <a:off x="7715160" y="5214960"/>
            <a:ext cx="1000080" cy="78588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122760 h 785880"/>
              <a:gd name="textAreaBottom" fmla="*/ 5648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440206"/>
                <a:lnTo>
                  <a:pt x="4243" y="21468"/>
                </a:lnTo>
                <a:lnTo>
                  <a:pt x="0" y="16200"/>
                </a:lnTo>
                <a:lnTo>
                  <a:pt x="4243" y="10668"/>
                </a:lnTo>
                <a:lnTo>
                  <a:pt x="4243" y="13368"/>
                </a:lnTo>
                <a:arcTo wR="21600" hR="6750" stAng="3440206" swAng="-297422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2" descr="Victoria-Falls-Zimbabwe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"/>
          <p:cNvSpPr/>
          <p:nvPr/>
        </p:nvSpPr>
        <p:spPr>
          <a:xfrm>
            <a:off x="285840" y="4214880"/>
            <a:ext cx="742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6600"/>
                </a:solidFill>
                <a:latin typeface="Times New Roman"/>
              </a:rPr>
              <a:t>Заменитель коле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6600"/>
                </a:solidFill>
                <a:latin typeface="Times New Roman"/>
              </a:rPr>
              <a:t>у трактора и тан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2928960" y="314316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Гусениц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Выгнутая вправо стрелка 5">
            <a:hlinkClick r:id="rId2" action="ppaction://hlinksldjump"/>
          </p:cNvPr>
          <p:cNvSpPr/>
          <p:nvPr/>
        </p:nvSpPr>
        <p:spPr>
          <a:xfrm>
            <a:off x="7929720" y="5214960"/>
            <a:ext cx="785520" cy="857160"/>
          </a:xfrm>
          <a:custGeom>
            <a:avLst/>
            <a:gdLst>
              <a:gd name="textAreaLeft" fmla="*/ 105120 w 785520"/>
              <a:gd name="textAreaRight" fmla="*/ 680400 w 785520"/>
              <a:gd name="textAreaTop" fmla="*/ 140400 h 857160"/>
              <a:gd name="textAreaBottom" fmla="*/ 61848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88" stAng="-5400000" swAng="5400000"/>
                <a:lnTo>
                  <a:pt x="21600" y="12038"/>
                </a:lnTo>
                <a:arcTo wR="21600" hR="7088" stAng="0" swAng="3108065"/>
                <a:lnTo>
                  <a:pt x="5400" y="21375"/>
                </a:lnTo>
                <a:lnTo>
                  <a:pt x="0" y="16650"/>
                </a:lnTo>
                <a:lnTo>
                  <a:pt x="5400" y="11475"/>
                </a:lnTo>
                <a:lnTo>
                  <a:pt x="5400" y="13950"/>
                </a:lnTo>
                <a:arcTo wR="21600" hR="7088" stAng="3108065" swAng="-2689769"/>
                <a:lnTo>
                  <a:pt x="20240" y="9563"/>
                </a:lnTo>
                <a:arcTo wR="21600" hR="7088" stAng="-418296" swAng="-4981704"/>
                <a:close/>
              </a:path>
              <a:path fill="darkenLess" w="21600" h="21600">
                <a:moveTo>
                  <a:pt x="0" y="0"/>
                </a:moveTo>
                <a:arcTo wR="21600" hR="7088" stAng="-5400000" swAng="5400000"/>
                <a:lnTo>
                  <a:pt x="21600" y="12038"/>
                </a:lnTo>
                <a:arcTo wR="21600" hR="7088" stAng="0" swAng="-418296"/>
                <a:lnTo>
                  <a:pt x="20240" y="9563"/>
                </a:lnTo>
                <a:arcTo wR="21600" hR="7088" stAng="-418296" swAng="-498170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2" descr="Victoria-Falls-Zimbabwe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428760" y="4214880"/>
            <a:ext cx="642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6600"/>
                </a:solidFill>
                <a:latin typeface="Times New Roman"/>
              </a:rPr>
              <a:t>Щётка для чистки бутыло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1357200" y="35002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Ерш – речная рыб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Выгнутая вправо стрелка 6">
            <a:hlinkClick r:id="rId2" action="ppaction://hlinksldjump"/>
          </p:cNvPr>
          <p:cNvSpPr/>
          <p:nvPr/>
        </p:nvSpPr>
        <p:spPr>
          <a:xfrm>
            <a:off x="7572240" y="5143680"/>
            <a:ext cx="1214640" cy="1143000"/>
          </a:xfrm>
          <a:custGeom>
            <a:avLst/>
            <a:gdLst>
              <a:gd name="textAreaLeft" fmla="*/ 162720 w 1214640"/>
              <a:gd name="textAreaRight" fmla="*/ 1051920 w 1214640"/>
              <a:gd name="textAreaTop" fmla="*/ 178560 h 1143000"/>
              <a:gd name="textAreaBottom" fmla="*/ 821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34245"/>
                <a:lnTo>
                  <a:pt x="5082" y="21411"/>
                </a:lnTo>
                <a:lnTo>
                  <a:pt x="0" y="16200"/>
                </a:lnTo>
                <a:lnTo>
                  <a:pt x="5082" y="10611"/>
                </a:lnTo>
                <a:lnTo>
                  <a:pt x="5082" y="13311"/>
                </a:lnTo>
                <a:arcTo wR="21600" hR="6750" stAng="3134245" swAng="-266825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2" descr="Victoria-Falls-Zimbabwe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"/>
          <p:cNvSpPr/>
          <p:nvPr/>
        </p:nvSpPr>
        <p:spPr>
          <a:xfrm>
            <a:off x="285840" y="3786120"/>
            <a:ext cx="828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6600"/>
                </a:solidFill>
                <a:latin typeface="Times New Roman"/>
              </a:rPr>
              <a:t>Норма оплаты чего-т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2714760" y="292896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Такс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Выгнутая вправо стрелка 5">
            <a:hlinkClick r:id="rId2" action="ppaction://hlinksldjump"/>
          </p:cNvPr>
          <p:cNvSpPr/>
          <p:nvPr/>
        </p:nvSpPr>
        <p:spPr>
          <a:xfrm>
            <a:off x="7786800" y="5500800"/>
            <a:ext cx="928440" cy="857160"/>
          </a:xfrm>
          <a:custGeom>
            <a:avLst/>
            <a:gdLst>
              <a:gd name="textAreaLeft" fmla="*/ 124200 w 928440"/>
              <a:gd name="textAreaRight" fmla="*/ 804240 w 928440"/>
              <a:gd name="textAreaTop" fmla="*/ 133920 h 857160"/>
              <a:gd name="textAreaBottom" fmla="*/ 616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68072"/>
                <a:lnTo>
                  <a:pt x="4985" y="21418"/>
                </a:lnTo>
                <a:lnTo>
                  <a:pt x="0" y="16200"/>
                </a:lnTo>
                <a:lnTo>
                  <a:pt x="4985" y="10618"/>
                </a:lnTo>
                <a:lnTo>
                  <a:pt x="4985" y="13318"/>
                </a:lnTo>
                <a:arcTo wR="21600" hR="6750" stAng="3168072" swAng="-270208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2" descr="Victoria-Falls-Zimbabwe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0" y="2857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6600"/>
                </a:solidFill>
                <a:latin typeface="Times New Roman"/>
              </a:rPr>
              <a:t>Обувная компания Германии, выпускающая спортивную обувь, одежду, инвентар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000240" y="207180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ум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Выгнутая вправо стрелка 5">
            <a:hlinkClick r:id="rId2" action="ppaction://hlinksldjump"/>
          </p:cNvPr>
          <p:cNvSpPr/>
          <p:nvPr/>
        </p:nvSpPr>
        <p:spPr>
          <a:xfrm>
            <a:off x="8001000" y="5786280"/>
            <a:ext cx="928800" cy="714600"/>
          </a:xfrm>
          <a:custGeom>
            <a:avLst/>
            <a:gdLst>
              <a:gd name="textAreaLeft" fmla="*/ 124200 w 928800"/>
              <a:gd name="textAreaRight" fmla="*/ 804600 w 928800"/>
              <a:gd name="textAreaTop" fmla="*/ 111600 h 714600"/>
              <a:gd name="textAreaBottom" fmla="*/ 5137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474457"/>
                <a:lnTo>
                  <a:pt x="4154" y="21474"/>
                </a:lnTo>
                <a:lnTo>
                  <a:pt x="0" y="16200"/>
                </a:lnTo>
                <a:lnTo>
                  <a:pt x="4154" y="10674"/>
                </a:lnTo>
                <a:lnTo>
                  <a:pt x="4154" y="13374"/>
                </a:lnTo>
                <a:arcTo wR="21600" hR="6750" stAng="3474457" swAng="-300847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1" descr="ss_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714240" y="214308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У кого есть ушко, но нет головы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3143160" y="3714840"/>
            <a:ext cx="272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У игл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Выгнутая вправо стрелка 4">
            <a:hlinkClick r:id="rId2" action="ppaction://hlinksldjump"/>
          </p:cNvPr>
          <p:cNvSpPr/>
          <p:nvPr/>
        </p:nvSpPr>
        <p:spPr>
          <a:xfrm>
            <a:off x="7786800" y="5429160"/>
            <a:ext cx="1000080" cy="92880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145080 h 928800"/>
              <a:gd name="textAreaBottom" fmla="*/ 6678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57917"/>
                <a:lnTo>
                  <a:pt x="5014" y="21416"/>
                </a:lnTo>
                <a:lnTo>
                  <a:pt x="0" y="16200"/>
                </a:lnTo>
                <a:lnTo>
                  <a:pt x="5014" y="10616"/>
                </a:lnTo>
                <a:lnTo>
                  <a:pt x="5014" y="13316"/>
                </a:lnTo>
                <a:arcTo wR="21600" hR="6750" stAng="3157917" swAng="-269193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1" descr="ss_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142920" y="2214720"/>
            <a:ext cx="88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У кого есть зубы, но нет языка и рта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000240" y="4000680"/>
            <a:ext cx="364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У пил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Выгнутая вправо стрелка 4">
            <a:hlinkClick r:id="rId2" action="ppaction://hlinksldjump"/>
          </p:cNvPr>
          <p:cNvSpPr/>
          <p:nvPr/>
        </p:nvSpPr>
        <p:spPr>
          <a:xfrm>
            <a:off x="7500960" y="5429160"/>
            <a:ext cx="1000080" cy="100008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156240 h 1000080"/>
              <a:gd name="textAreaBottom" fmla="*/ 71892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26114"/>
                <a:lnTo>
                  <a:pt x="5400" y="21386"/>
                </a:lnTo>
                <a:lnTo>
                  <a:pt x="0" y="16200"/>
                </a:lnTo>
                <a:lnTo>
                  <a:pt x="5400" y="10586"/>
                </a:lnTo>
                <a:lnTo>
                  <a:pt x="5400" y="13286"/>
                </a:lnTo>
                <a:arcTo wR="21600" hR="6750" stAng="3026114" swAng="-256012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468360" y="333360"/>
          <a:ext cx="8280360" cy="6264360"/>
        </p:xfrm>
        <a:graphic>
          <a:graphicData uri="http://schemas.openxmlformats.org/drawingml/2006/table">
            <a:tbl>
              <a:tblPr/>
              <a:tblGrid>
                <a:gridCol w="2382840"/>
                <a:gridCol w="1179360"/>
                <a:gridCol w="1179720"/>
                <a:gridCol w="1179360"/>
                <a:gridCol w="1179720"/>
                <a:gridCol w="1179360"/>
              </a:tblGrid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Кто так умеет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3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5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139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А бабочка крылышками…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3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5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Забавна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анатом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5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Двойная жизнь живот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3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Верю – не вер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3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Стрелка вправо 2">
            <a:hlinkClick r:id="rId26" action="ppaction://hlinksldjump"/>
          </p:cNvPr>
          <p:cNvSpPr/>
          <p:nvPr/>
        </p:nvSpPr>
        <p:spPr>
          <a:xfrm>
            <a:off x="8929800" y="6572160"/>
            <a:ext cx="712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ss_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2"/>
          <p:cNvSpPr/>
          <p:nvPr/>
        </p:nvSpPr>
        <p:spPr>
          <a:xfrm>
            <a:off x="142920" y="2143080"/>
            <a:ext cx="90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У кого есть ребра, но нет позвоночника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3071880" y="4000680"/>
            <a:ext cx="292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У куб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Выгнутая вправо стрелка 4">
            <a:hlinkClick r:id="rId2" action="ppaction://hlinksldjump"/>
          </p:cNvPr>
          <p:cNvSpPr/>
          <p:nvPr/>
        </p:nvSpPr>
        <p:spPr>
          <a:xfrm>
            <a:off x="7286760" y="5357880"/>
            <a:ext cx="1143000" cy="114300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78560 h 1143000"/>
              <a:gd name="textAreaBottom" fmla="*/ 821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26114"/>
                <a:lnTo>
                  <a:pt x="5400" y="21386"/>
                </a:lnTo>
                <a:lnTo>
                  <a:pt x="0" y="16200"/>
                </a:lnTo>
                <a:lnTo>
                  <a:pt x="5400" y="10586"/>
                </a:lnTo>
                <a:lnTo>
                  <a:pt x="5400" y="13286"/>
                </a:lnTo>
                <a:arcTo wR="21600" hR="6750" stAng="3026114" swAng="-256012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1" descr="ss_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214200" y="214308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Кто без глаз, а слезами плачет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3500280" y="3857760"/>
            <a:ext cx="203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Туч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Выгнутая вправо стрелка 4">
            <a:hlinkClick r:id="rId2" action="ppaction://hlinksldjump"/>
          </p:cNvPr>
          <p:cNvSpPr/>
          <p:nvPr/>
        </p:nvSpPr>
        <p:spPr>
          <a:xfrm>
            <a:off x="7429680" y="5286240"/>
            <a:ext cx="1143000" cy="107172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67400 h 1071720"/>
              <a:gd name="textAreaBottom" fmla="*/ 77040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40839"/>
                <a:lnTo>
                  <a:pt x="5063" y="21412"/>
                </a:lnTo>
                <a:lnTo>
                  <a:pt x="0" y="16200"/>
                </a:lnTo>
                <a:lnTo>
                  <a:pt x="5063" y="10612"/>
                </a:lnTo>
                <a:lnTo>
                  <a:pt x="5063" y="13312"/>
                </a:lnTo>
                <a:arcTo wR="21600" hR="6750" stAng="3140839" swAng="-2674853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1" descr="ss_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"/>
          <p:cNvSpPr/>
          <p:nvPr/>
        </p:nvSpPr>
        <p:spPr>
          <a:xfrm>
            <a:off x="0" y="1285920"/>
            <a:ext cx="90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Кто не имеет ни лёгких, ни жабр, а дышит и вздыхает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3071880" y="3857760"/>
            <a:ext cx="25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Тест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Выгнутая вправо стрелка 4">
            <a:hlinkClick r:id="rId2" action="ppaction://hlinksldjump"/>
          </p:cNvPr>
          <p:cNvSpPr/>
          <p:nvPr/>
        </p:nvSpPr>
        <p:spPr>
          <a:xfrm>
            <a:off x="7429680" y="5357880"/>
            <a:ext cx="1071360" cy="928800"/>
          </a:xfrm>
          <a:custGeom>
            <a:avLst/>
            <a:gdLst>
              <a:gd name="textAreaLeft" fmla="*/ 143280 w 1071360"/>
              <a:gd name="textAreaRight" fmla="*/ 928080 w 1071360"/>
              <a:gd name="textAreaTop" fmla="*/ 145080 h 928800"/>
              <a:gd name="textAreaBottom" fmla="*/ 6678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77049"/>
                <a:lnTo>
                  <a:pt x="4680" y="21440"/>
                </a:lnTo>
                <a:lnTo>
                  <a:pt x="0" y="16200"/>
                </a:lnTo>
                <a:lnTo>
                  <a:pt x="4680" y="10640"/>
                </a:lnTo>
                <a:lnTo>
                  <a:pt x="4680" y="13340"/>
                </a:lnTo>
                <a:arcTo wR="21600" hR="6750" stAng="3277049" swAng="-2811063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1" descr="ph24498.wb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2"/>
          <p:cNvSpPr/>
          <p:nvPr/>
        </p:nvSpPr>
        <p:spPr>
          <a:xfrm>
            <a:off x="785880" y="714240"/>
            <a:ext cx="7715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imes New Roman"/>
              </a:rPr>
              <a:t>Банковский билет номиналом в 10 рублей и дневная бабоч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Выгнутая вправо стрелка 3">
            <a:hlinkClick r:id="rId2" action="ppaction://hlinksldjump"/>
          </p:cNvPr>
          <p:cNvSpPr/>
          <p:nvPr/>
        </p:nvSpPr>
        <p:spPr>
          <a:xfrm>
            <a:off x="7358040" y="5214960"/>
            <a:ext cx="1357200" cy="1214280"/>
          </a:xfrm>
          <a:custGeom>
            <a:avLst/>
            <a:gdLst>
              <a:gd name="textAreaLeft" fmla="*/ 181800 w 1357200"/>
              <a:gd name="textAreaRight" fmla="*/ 1175400 w 1357200"/>
              <a:gd name="textAreaTop" fmla="*/ 189720 h 1214280"/>
              <a:gd name="textAreaBottom" fmla="*/ 8730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22241"/>
                <a:lnTo>
                  <a:pt x="4832" y="21429"/>
                </a:lnTo>
                <a:lnTo>
                  <a:pt x="0" y="16200"/>
                </a:lnTo>
                <a:lnTo>
                  <a:pt x="4832" y="10629"/>
                </a:lnTo>
                <a:lnTo>
                  <a:pt x="4832" y="13329"/>
                </a:lnTo>
                <a:arcTo wR="21600" hR="6750" stAng="3222241" swAng="-2756255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2428920" y="3357720"/>
            <a:ext cx="41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Червоне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1" descr="ph24498.wb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"/>
          <p:cNvSpPr/>
          <p:nvPr/>
        </p:nvSpPr>
        <p:spPr>
          <a:xfrm>
            <a:off x="642960" y="1143000"/>
            <a:ext cx="8286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imes New Roman"/>
              </a:rPr>
              <a:t>Воинское звание в военно-морском флоте и дневная бабоч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928960" y="385776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Адмира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Выгнутая вправо стрелка 4">
            <a:hlinkClick r:id="rId2" action="ppaction://hlinksldjump"/>
          </p:cNvPr>
          <p:cNvSpPr/>
          <p:nvPr/>
        </p:nvSpPr>
        <p:spPr>
          <a:xfrm>
            <a:off x="7286760" y="5214960"/>
            <a:ext cx="1357200" cy="1071720"/>
          </a:xfrm>
          <a:custGeom>
            <a:avLst/>
            <a:gdLst>
              <a:gd name="textAreaLeft" fmla="*/ 181800 w 1357200"/>
              <a:gd name="textAreaRight" fmla="*/ 1175400 w 1357200"/>
              <a:gd name="textAreaTop" fmla="*/ 167400 h 1071720"/>
              <a:gd name="textAreaBottom" fmla="*/ 77040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432556"/>
                <a:lnTo>
                  <a:pt x="4263" y="21467"/>
                </a:lnTo>
                <a:lnTo>
                  <a:pt x="0" y="16200"/>
                </a:lnTo>
                <a:lnTo>
                  <a:pt x="4263" y="10667"/>
                </a:lnTo>
                <a:lnTo>
                  <a:pt x="4263" y="13367"/>
                </a:lnTo>
                <a:arcTo wR="21600" hR="6750" stAng="3432556" swAng="-296657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ph24498.wb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"/>
          <p:cNvSpPr/>
          <p:nvPr/>
        </p:nvSpPr>
        <p:spPr>
          <a:xfrm>
            <a:off x="571680" y="1214280"/>
            <a:ext cx="8143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imes New Roman"/>
              </a:rPr>
              <a:t>Высший (после папы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imes New Roman"/>
              </a:rPr>
              <a:t>католический духовный сан и ночная бабоч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714760" y="3714840"/>
            <a:ext cx="42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Кардина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Выгнутая вправо стрелка 4">
            <a:hlinkClick r:id="rId2" action="ppaction://hlinksldjump"/>
          </p:cNvPr>
          <p:cNvSpPr/>
          <p:nvPr/>
        </p:nvSpPr>
        <p:spPr>
          <a:xfrm>
            <a:off x="7643880" y="5143680"/>
            <a:ext cx="1071360" cy="1143000"/>
          </a:xfrm>
          <a:custGeom>
            <a:avLst/>
            <a:gdLst>
              <a:gd name="textAreaLeft" fmla="*/ 143280 w 1071360"/>
              <a:gd name="textAreaRight" fmla="*/ 928080 w 1071360"/>
              <a:gd name="textAreaTop" fmla="*/ 185040 h 1143000"/>
              <a:gd name="textAreaBottom" fmla="*/ 8236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03" stAng="-5400000" swAng="5400000"/>
                <a:lnTo>
                  <a:pt x="21600" y="12066"/>
                </a:lnTo>
                <a:arcTo wR="21600" hR="7003" stAng="0" swAng="3087999"/>
                <a:lnTo>
                  <a:pt x="5400" y="21378"/>
                </a:lnTo>
                <a:lnTo>
                  <a:pt x="0" y="16538"/>
                </a:lnTo>
                <a:lnTo>
                  <a:pt x="5400" y="11253"/>
                </a:lnTo>
                <a:lnTo>
                  <a:pt x="5400" y="13784"/>
                </a:lnTo>
                <a:arcTo wR="21600" hR="7003" stAng="3087999" swAng="-2658131"/>
                <a:lnTo>
                  <a:pt x="20139" y="9535"/>
                </a:lnTo>
                <a:arcTo wR="21600" hR="7003" stAng="-429868" swAng="-4970132"/>
                <a:close/>
              </a:path>
              <a:path fill="darkenLess" w="21600" h="21600">
                <a:moveTo>
                  <a:pt x="0" y="0"/>
                </a:moveTo>
                <a:arcTo wR="21600" hR="7003" stAng="-5400000" swAng="5400000"/>
                <a:lnTo>
                  <a:pt x="21600" y="12066"/>
                </a:lnTo>
                <a:arcTo wR="21600" hR="7003" stAng="0" swAng="-429868"/>
                <a:lnTo>
                  <a:pt x="20139" y="9535"/>
                </a:lnTo>
                <a:arcTo wR="21600" hR="7003" stAng="-429868" swAng="-4970132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ph24498.wb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357120" y="11430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imes New Roman"/>
              </a:rPr>
              <a:t>Вежливое обращение к даме и ночная бабоч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Выгнутая вправо стрелка 3">
            <a:hlinkClick r:id="rId2" action="ppaction://hlinksldjump"/>
          </p:cNvPr>
          <p:cNvSpPr/>
          <p:nvPr/>
        </p:nvSpPr>
        <p:spPr>
          <a:xfrm>
            <a:off x="7572240" y="5500800"/>
            <a:ext cx="1143000" cy="10000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56240 h 1000080"/>
              <a:gd name="textAreaBottom" fmla="*/ 71892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60719"/>
                <a:lnTo>
                  <a:pt x="4725" y="21437"/>
                </a:lnTo>
                <a:lnTo>
                  <a:pt x="0" y="16200"/>
                </a:lnTo>
                <a:lnTo>
                  <a:pt x="4725" y="10637"/>
                </a:lnTo>
                <a:lnTo>
                  <a:pt x="4725" y="13337"/>
                </a:lnTo>
                <a:arcTo wR="21600" hR="6750" stAng="3260719" swAng="-2794733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2571840" y="3286080"/>
            <a:ext cx="350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Госпож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ph24498.wb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142920" y="357120"/>
            <a:ext cx="878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imes New Roman"/>
              </a:rPr>
              <a:t>Античное лесное божество, демон плодородия из свиты Диониса, и дневная бабоч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Выгнутая вправо стрелка 3">
            <a:hlinkClick r:id="rId2" action="ppaction://hlinksldjump"/>
          </p:cNvPr>
          <p:cNvSpPr/>
          <p:nvPr/>
        </p:nvSpPr>
        <p:spPr>
          <a:xfrm>
            <a:off x="7786800" y="5286240"/>
            <a:ext cx="928440" cy="1000440"/>
          </a:xfrm>
          <a:custGeom>
            <a:avLst/>
            <a:gdLst>
              <a:gd name="textAreaLeft" fmla="*/ 124200 w 928440"/>
              <a:gd name="textAreaRight" fmla="*/ 804240 w 928440"/>
              <a:gd name="textAreaTop" fmla="*/ 162720 h 1000440"/>
              <a:gd name="textAreaBottom" fmla="*/ 721440 h 100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39" stAng="-5400000" swAng="5400000"/>
                <a:lnTo>
                  <a:pt x="21600" y="12054"/>
                </a:lnTo>
                <a:arcTo wR="21600" hR="7039" stAng="0" swAng="3096584"/>
                <a:lnTo>
                  <a:pt x="5400" y="21376"/>
                </a:lnTo>
                <a:lnTo>
                  <a:pt x="0" y="16586"/>
                </a:lnTo>
                <a:lnTo>
                  <a:pt x="5400" y="11347"/>
                </a:lnTo>
                <a:lnTo>
                  <a:pt x="5400" y="13854"/>
                </a:lnTo>
                <a:arcTo wR="21600" hR="7039" stAng="3096584" swAng="-2671662"/>
                <a:lnTo>
                  <a:pt x="20183" y="9547"/>
                </a:lnTo>
                <a:arcTo wR="21600" hR="7039" stAng="-424922" swAng="-4975078"/>
                <a:close/>
              </a:path>
              <a:path fill="darkenLess" w="21600" h="21600">
                <a:moveTo>
                  <a:pt x="0" y="0"/>
                </a:moveTo>
                <a:arcTo wR="21600" hR="7039" stAng="-5400000" swAng="5400000"/>
                <a:lnTo>
                  <a:pt x="21600" y="12054"/>
                </a:lnTo>
                <a:arcTo wR="21600" hR="7039" stAng="0" swAng="-424922"/>
                <a:lnTo>
                  <a:pt x="20183" y="9547"/>
                </a:lnTo>
                <a:arcTo wR="21600" hR="7039" stAng="-424922" swAng="-497507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3357720" y="378612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Сати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10"/>
          <p:cNvSpPr txBox="1"/>
          <p:nvPr/>
        </p:nvSpPr>
        <p:spPr>
          <a:xfrm>
            <a:off x="1785960" y="2571840"/>
            <a:ext cx="5929200" cy="35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война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468360" y="333360"/>
          <a:ext cx="8280360" cy="6234120"/>
        </p:xfrm>
        <a:graphic>
          <a:graphicData uri="http://schemas.openxmlformats.org/drawingml/2006/table">
            <a:tbl>
              <a:tblPr/>
              <a:tblGrid>
                <a:gridCol w="2382840"/>
                <a:gridCol w="1179360"/>
                <a:gridCol w="1179720"/>
                <a:gridCol w="1179360"/>
                <a:gridCol w="1179720"/>
                <a:gridCol w="11793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«Самый, самая, самое...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био. рекор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Животные из сказок, книг и мультфильм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13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Биология в древнег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ческих миф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«Какой породы была собака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«Р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тельный мир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1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Стрелка вправо 2">
            <a:hlinkClick r:id="rId27" action="ppaction://hlinksldjump"/>
          </p:cNvPr>
          <p:cNvSpPr/>
          <p:nvPr/>
        </p:nvSpPr>
        <p:spPr>
          <a:xfrm>
            <a:off x="8858160" y="6572160"/>
            <a:ext cx="14292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Times New Roman"/>
              </a:rPr>
              <a:t>Кугуар и пума – это одно и тоже живот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0000"/>
                </a:solidFill>
                <a:latin typeface="Times New Roman"/>
              </a:rPr>
              <a:t>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>
            <a:hlinkClick r:id="rId2" action="ppaction://hlinksldjump"/>
          </p:cNvPr>
          <p:cNvSpPr/>
          <p:nvPr/>
        </p:nvSpPr>
        <p:spPr>
          <a:xfrm>
            <a:off x="7812000" y="5373720"/>
            <a:ext cx="576360" cy="1008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1223042705_von0047h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285840" y="28584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Какое животное является самым высоким существом на Земле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2143080" y="4071960"/>
            <a:ext cx="507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Жира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Выгнутая вправо стрелка 5">
            <a:hlinkClick r:id="rId2" action="ppaction://hlinksldjump"/>
          </p:cNvPr>
          <p:cNvSpPr/>
          <p:nvPr/>
        </p:nvSpPr>
        <p:spPr>
          <a:xfrm>
            <a:off x="7786800" y="5500800"/>
            <a:ext cx="1000080" cy="85716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133920 h 857160"/>
              <a:gd name="textAreaBottom" fmla="*/ 616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95662"/>
                <a:lnTo>
                  <a:pt x="4629" y="21443"/>
                </a:lnTo>
                <a:lnTo>
                  <a:pt x="0" y="16200"/>
                </a:lnTo>
                <a:lnTo>
                  <a:pt x="4629" y="10643"/>
                </a:lnTo>
                <a:lnTo>
                  <a:pt x="4629" y="13343"/>
                </a:lnTo>
                <a:arcTo wR="21600" hR="6750" stAng="3295662" swAng="-282967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1223042705_von0047h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"/>
          <p:cNvSpPr/>
          <p:nvPr/>
        </p:nvSpPr>
        <p:spPr>
          <a:xfrm>
            <a:off x="285840" y="28584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Какой хищный зверь на Земле самый крупный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1571760" y="2786040"/>
            <a:ext cx="607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Белый медвед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Выгнутая вправо стрелка 5">
            <a:hlinkClick r:id="rId2" action="ppaction://hlinksldjump"/>
          </p:cNvPr>
          <p:cNvSpPr/>
          <p:nvPr/>
        </p:nvSpPr>
        <p:spPr>
          <a:xfrm>
            <a:off x="7786800" y="5500800"/>
            <a:ext cx="1000080" cy="85716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133920 h 857160"/>
              <a:gd name="textAreaBottom" fmla="*/ 616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95662"/>
                <a:lnTo>
                  <a:pt x="4629" y="21443"/>
                </a:lnTo>
                <a:lnTo>
                  <a:pt x="0" y="16200"/>
                </a:lnTo>
                <a:lnTo>
                  <a:pt x="4629" y="10643"/>
                </a:lnTo>
                <a:lnTo>
                  <a:pt x="4629" y="13343"/>
                </a:lnTo>
                <a:arcTo wR="21600" hR="6750" stAng="3295662" swAng="-282967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1223042705_von0047h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"/>
          <p:cNvSpPr/>
          <p:nvPr/>
        </p:nvSpPr>
        <p:spPr>
          <a:xfrm>
            <a:off x="285840" y="285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Назовите самое крупное животное, обитающее в наши дни на Земле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642960" y="3571920"/>
            <a:ext cx="81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Самка синего кит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Выгнутая вправо стрелка 5">
            <a:hlinkClick r:id="rId2" action="ppaction://hlinksldjump"/>
          </p:cNvPr>
          <p:cNvSpPr/>
          <p:nvPr/>
        </p:nvSpPr>
        <p:spPr>
          <a:xfrm>
            <a:off x="7786800" y="5500800"/>
            <a:ext cx="1000080" cy="85716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133920 h 857160"/>
              <a:gd name="textAreaBottom" fmla="*/ 616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95662"/>
                <a:lnTo>
                  <a:pt x="4629" y="21443"/>
                </a:lnTo>
                <a:lnTo>
                  <a:pt x="0" y="16200"/>
                </a:lnTo>
                <a:lnTo>
                  <a:pt x="4629" y="10643"/>
                </a:lnTo>
                <a:lnTo>
                  <a:pt x="4629" y="13343"/>
                </a:lnTo>
                <a:arcTo wR="21600" hR="6750" stAng="3295662" swAng="-282967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1" descr="1223042705_von0047h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3"/>
          <p:cNvSpPr/>
          <p:nvPr/>
        </p:nvSpPr>
        <p:spPr>
          <a:xfrm>
            <a:off x="285840" y="285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Назовите самого лучшего прыгуна в высот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2357280" y="3357720"/>
            <a:ext cx="485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Дельфин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Выгнутая вправо стрелка 5">
            <a:hlinkClick r:id="rId2" action="ppaction://hlinksldjump"/>
          </p:cNvPr>
          <p:cNvSpPr/>
          <p:nvPr/>
        </p:nvSpPr>
        <p:spPr>
          <a:xfrm>
            <a:off x="7786800" y="5500800"/>
            <a:ext cx="1000080" cy="85716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133920 h 857160"/>
              <a:gd name="textAreaBottom" fmla="*/ 616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95662"/>
                <a:lnTo>
                  <a:pt x="4629" y="21443"/>
                </a:lnTo>
                <a:lnTo>
                  <a:pt x="0" y="16200"/>
                </a:lnTo>
                <a:lnTo>
                  <a:pt x="4629" y="10643"/>
                </a:lnTo>
                <a:lnTo>
                  <a:pt x="4629" y="13343"/>
                </a:lnTo>
                <a:arcTo wR="21600" hR="6750" stAng="3295662" swAng="-282967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1223042705_von0047h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3"/>
          <p:cNvSpPr/>
          <p:nvPr/>
        </p:nvSpPr>
        <p:spPr>
          <a:xfrm>
            <a:off x="285840" y="285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Назовите самое морозостойкое животное  на Земл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2357280" y="3571920"/>
            <a:ext cx="485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Утк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Выгнутая вправо стрелка 5">
            <a:hlinkClick r:id="rId2" action="ppaction://hlinksldjump"/>
          </p:cNvPr>
          <p:cNvSpPr/>
          <p:nvPr/>
        </p:nvSpPr>
        <p:spPr>
          <a:xfrm>
            <a:off x="7786800" y="5500800"/>
            <a:ext cx="1000080" cy="85716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133920 h 857160"/>
              <a:gd name="textAreaBottom" fmla="*/ 616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95662"/>
                <a:lnTo>
                  <a:pt x="4629" y="21443"/>
                </a:lnTo>
                <a:lnTo>
                  <a:pt x="0" y="16200"/>
                </a:lnTo>
                <a:lnTo>
                  <a:pt x="4629" y="10643"/>
                </a:lnTo>
                <a:lnTo>
                  <a:pt x="4629" y="13343"/>
                </a:lnTo>
                <a:arcTo wR="21600" hR="6750" stAng="3295662" swAng="-282967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1" descr="post-169-130505939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2"/>
          <p:cNvSpPr/>
          <p:nvPr/>
        </p:nvSpPr>
        <p:spPr>
          <a:xfrm>
            <a:off x="2928960" y="1857240"/>
            <a:ext cx="25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Ум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1571760" y="4357800"/>
            <a:ext cx="578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Белый медвежоно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Выгнутая вправо стрелка 4">
            <a:hlinkClick r:id="rId2" action="ppaction://hlinksldjump"/>
          </p:cNvPr>
          <p:cNvSpPr/>
          <p:nvPr/>
        </p:nvSpPr>
        <p:spPr>
          <a:xfrm>
            <a:off x="7858080" y="5572080"/>
            <a:ext cx="1071720" cy="100008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156240 h 1000080"/>
              <a:gd name="textAreaBottom" fmla="*/ 71892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48842"/>
                <a:lnTo>
                  <a:pt x="5040" y="21414"/>
                </a:lnTo>
                <a:lnTo>
                  <a:pt x="0" y="16200"/>
                </a:lnTo>
                <a:lnTo>
                  <a:pt x="5040" y="10614"/>
                </a:lnTo>
                <a:lnTo>
                  <a:pt x="5040" y="13314"/>
                </a:lnTo>
                <a:arcTo wR="21600" hR="6750" stAng="3148842" swAng="-268285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post-169-130505939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2500200" y="1857240"/>
            <a:ext cx="364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Тотош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2143080" y="4357800"/>
            <a:ext cx="407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Щенок Элл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Выгнутая вправо стрелка 4">
            <a:hlinkClick r:id="rId2" action="ppaction://hlinksldjump"/>
          </p:cNvPr>
          <p:cNvSpPr/>
          <p:nvPr/>
        </p:nvSpPr>
        <p:spPr>
          <a:xfrm>
            <a:off x="7858080" y="5572080"/>
            <a:ext cx="1071720" cy="100008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156240 h 1000080"/>
              <a:gd name="textAreaBottom" fmla="*/ 71892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48842"/>
                <a:lnTo>
                  <a:pt x="5040" y="21414"/>
                </a:lnTo>
                <a:lnTo>
                  <a:pt x="0" y="16200"/>
                </a:lnTo>
                <a:lnTo>
                  <a:pt x="5040" y="10614"/>
                </a:lnTo>
                <a:lnTo>
                  <a:pt x="5040" y="13314"/>
                </a:lnTo>
                <a:arcTo wR="21600" hR="6750" stAng="3148842" swAng="-268285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1" descr="post-169-130505939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2357280" y="1000080"/>
            <a:ext cx="41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Рикки- Тики-Тав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3000240" y="435780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Мангус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Выгнутая вправо стрелка 4"/>
          <p:cNvSpPr/>
          <p:nvPr/>
        </p:nvSpPr>
        <p:spPr>
          <a:xfrm>
            <a:off x="7858080" y="5572080"/>
            <a:ext cx="1071720" cy="100008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156240 h 1000080"/>
              <a:gd name="textAreaBottom" fmla="*/ 71892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48842"/>
                <a:lnTo>
                  <a:pt x="5040" y="21414"/>
                </a:lnTo>
                <a:lnTo>
                  <a:pt x="0" y="16200"/>
                </a:lnTo>
                <a:lnTo>
                  <a:pt x="5040" y="10614"/>
                </a:lnTo>
                <a:lnTo>
                  <a:pt x="5040" y="13314"/>
                </a:lnTo>
                <a:arcTo wR="21600" hR="6750" stAng="3148842" swAng="-268285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post-169-130505939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"/>
          <p:cNvSpPr/>
          <p:nvPr/>
        </p:nvSpPr>
        <p:spPr>
          <a:xfrm>
            <a:off x="3357720" y="1857240"/>
            <a:ext cx="214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Ка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3286080" y="435780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Пито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Выгнутая вправо стрелка 4"/>
          <p:cNvSpPr/>
          <p:nvPr/>
        </p:nvSpPr>
        <p:spPr>
          <a:xfrm>
            <a:off x="7858080" y="5572080"/>
            <a:ext cx="1071720" cy="100008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156240 h 1000080"/>
              <a:gd name="textAreaBottom" fmla="*/ 71892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48842"/>
                <a:lnTo>
                  <a:pt x="5040" y="21414"/>
                </a:lnTo>
                <a:lnTo>
                  <a:pt x="0" y="16200"/>
                </a:lnTo>
                <a:lnTo>
                  <a:pt x="5040" y="10614"/>
                </a:lnTo>
                <a:lnTo>
                  <a:pt x="5040" y="13314"/>
                </a:lnTo>
                <a:arcTo wR="21600" hR="6750" stAng="3148842" swAng="-268285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1" descr="post-169-130505939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2"/>
          <p:cNvSpPr/>
          <p:nvPr/>
        </p:nvSpPr>
        <p:spPr>
          <a:xfrm>
            <a:off x="2928960" y="1857240"/>
            <a:ext cx="31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Таба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3214800" y="4357800"/>
            <a:ext cx="235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ака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Выгнутая вправо стрелка 4"/>
          <p:cNvSpPr/>
          <p:nvPr/>
        </p:nvSpPr>
        <p:spPr>
          <a:xfrm>
            <a:off x="7858080" y="5572080"/>
            <a:ext cx="1071720" cy="100008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156240 h 1000080"/>
              <a:gd name="textAreaBottom" fmla="*/ 71892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48842"/>
                <a:lnTo>
                  <a:pt x="5040" y="21414"/>
                </a:lnTo>
                <a:lnTo>
                  <a:pt x="0" y="16200"/>
                </a:lnTo>
                <a:lnTo>
                  <a:pt x="5040" y="10614"/>
                </a:lnTo>
                <a:lnTo>
                  <a:pt x="5040" y="13314"/>
                </a:lnTo>
                <a:arcTo wR="21600" hR="6750" stAng="3148842" swAng="-268285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3300"/>
                </a:solidFill>
                <a:latin typeface="Times New Roman"/>
              </a:rPr>
              <a:t>Лев сильнее тиг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0000"/>
                </a:solidFill>
                <a:latin typeface="Times New Roman"/>
              </a:rPr>
              <a:t>Не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Выгнутая вправо стрелка 5">
            <a:hlinkClick r:id="rId2" action="ppaction://hlinksldjump"/>
          </p:cNvPr>
          <p:cNvSpPr/>
          <p:nvPr/>
        </p:nvSpPr>
        <p:spPr>
          <a:xfrm>
            <a:off x="7572240" y="5286240"/>
            <a:ext cx="857520" cy="1071720"/>
          </a:xfrm>
          <a:custGeom>
            <a:avLst/>
            <a:gdLst>
              <a:gd name="textAreaLeft" fmla="*/ 114840 w 857520"/>
              <a:gd name="textAreaRight" fmla="*/ 742680 w 857520"/>
              <a:gd name="textAreaTop" fmla="*/ 187560 h 1071720"/>
              <a:gd name="textAreaBottom" fmla="*/ 77724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3215003"/>
                <a:lnTo>
                  <a:pt x="5400" y="21360"/>
                </a:lnTo>
                <a:lnTo>
                  <a:pt x="0" y="17280"/>
                </a:lnTo>
                <a:lnTo>
                  <a:pt x="5400" y="12720"/>
                </a:lnTo>
                <a:lnTo>
                  <a:pt x="5400" y="14880"/>
                </a:lnTo>
                <a:arcTo wR="21600" hR="7560" stAng="3215003" swAng="-2857569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4" descr="1078714717_l[1].jpg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40360"/>
          </a:xfrm>
          <a:prstGeom prst="rect">
            <a:avLst/>
          </a:prstGeom>
          <a:ln w="0">
            <a:noFill/>
          </a:ln>
        </p:spPr>
      </p:pic>
      <p:sp>
        <p:nvSpPr>
          <p:cNvPr id="273" name="Выгнутая вправо стрелка 5"/>
          <p:cNvSpPr/>
          <p:nvPr/>
        </p:nvSpPr>
        <p:spPr>
          <a:xfrm>
            <a:off x="7786800" y="5572080"/>
            <a:ext cx="1143000" cy="7858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22760 h 785880"/>
              <a:gd name="textAreaBottom" fmla="*/ 5648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49298"/>
                <a:lnTo>
                  <a:pt x="3713" y="21500"/>
                </a:lnTo>
                <a:lnTo>
                  <a:pt x="0" y="16200"/>
                </a:lnTo>
                <a:lnTo>
                  <a:pt x="3713" y="10700"/>
                </a:lnTo>
                <a:lnTo>
                  <a:pt x="3713" y="13400"/>
                </a:lnTo>
                <a:arcTo wR="21600" hR="6750" stAng="3649298" swAng="-3183312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0" y="214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Артемон в сказке Толстого «Золотой ключик, или Приключения Буратино»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3214800" y="5000760"/>
            <a:ext cx="27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imes New Roman"/>
              </a:rPr>
              <a:t>Пудел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4" descr="1078714717_l[1].jpg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40360"/>
          </a:xfrm>
          <a:prstGeom prst="rect">
            <a:avLst/>
          </a:prstGeom>
          <a:ln w="0">
            <a:noFill/>
          </a:ln>
        </p:spPr>
      </p:pic>
      <p:sp>
        <p:nvSpPr>
          <p:cNvPr id="277" name="Выгнутая вправо стрелка 5"/>
          <p:cNvSpPr/>
          <p:nvPr/>
        </p:nvSpPr>
        <p:spPr>
          <a:xfrm>
            <a:off x="7786800" y="5572080"/>
            <a:ext cx="1143000" cy="7858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22760 h 785880"/>
              <a:gd name="textAreaBottom" fmla="*/ 5648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49298"/>
                <a:lnTo>
                  <a:pt x="3713" y="21500"/>
                </a:lnTo>
                <a:lnTo>
                  <a:pt x="0" y="16200"/>
                </a:lnTo>
                <a:lnTo>
                  <a:pt x="3713" y="10700"/>
                </a:lnTo>
                <a:lnTo>
                  <a:pt x="3713" y="13400"/>
                </a:lnTo>
                <a:arcTo wR="21600" hR="6750" stAng="3649298" swAng="-3183312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0" y="1357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в рассказе А. Чехов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«Каштанка»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1000080" y="450072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imes New Roman"/>
              </a:rPr>
              <a:t>Помесь таксы с дворняжко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Рисунок 4" descr="1078714717_l[1].jpg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40360"/>
          </a:xfrm>
          <a:prstGeom prst="rect">
            <a:avLst/>
          </a:prstGeom>
          <a:ln w="0">
            <a:noFill/>
          </a:ln>
        </p:spPr>
      </p:pic>
      <p:sp>
        <p:nvSpPr>
          <p:cNvPr id="281" name="Выгнутая вправо стрелка 5"/>
          <p:cNvSpPr/>
          <p:nvPr/>
        </p:nvSpPr>
        <p:spPr>
          <a:xfrm>
            <a:off x="7786800" y="5786280"/>
            <a:ext cx="1143000" cy="7858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22760 h 785880"/>
              <a:gd name="textAreaBottom" fmla="*/ 5648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49704"/>
                <a:lnTo>
                  <a:pt x="3712" y="21500"/>
                </a:lnTo>
                <a:lnTo>
                  <a:pt x="0" y="16200"/>
                </a:lnTo>
                <a:lnTo>
                  <a:pt x="3712" y="10700"/>
                </a:lnTo>
                <a:lnTo>
                  <a:pt x="3712" y="13400"/>
                </a:lnTo>
                <a:arcTo wR="21600" hR="6750" stAng="3649704" swAng="-318371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0" y="1143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…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в повести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Г. Троепольског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«Белый Бим Чёрное Ухо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357120" y="4714920"/>
            <a:ext cx="850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imes New Roman"/>
              </a:rPr>
              <a:t>Шотландский сеттер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4" descr="1078714717_l[1].jpg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40360"/>
          </a:xfrm>
          <a:prstGeom prst="rect">
            <a:avLst/>
          </a:prstGeom>
          <a:ln w="0">
            <a:noFill/>
          </a:ln>
        </p:spPr>
      </p:pic>
      <p:sp>
        <p:nvSpPr>
          <p:cNvPr id="285" name="Выгнутая вправо стрелка 5"/>
          <p:cNvSpPr/>
          <p:nvPr/>
        </p:nvSpPr>
        <p:spPr>
          <a:xfrm>
            <a:off x="7786800" y="5572080"/>
            <a:ext cx="1143000" cy="7858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22760 h 785880"/>
              <a:gd name="textAreaBottom" fmla="*/ 5648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49298"/>
                <a:lnTo>
                  <a:pt x="3713" y="21500"/>
                </a:lnTo>
                <a:lnTo>
                  <a:pt x="0" y="16200"/>
                </a:lnTo>
                <a:lnTo>
                  <a:pt x="3713" y="10700"/>
                </a:lnTo>
                <a:lnTo>
                  <a:pt x="3713" y="13400"/>
                </a:lnTo>
                <a:arcTo wR="21600" hR="6750" stAng="3649298" swAng="-3183312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0" y="15717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…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в повести Д. Джером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« Трое в лодке, не считая собаки»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1643040" y="471492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imes New Roman"/>
              </a:rPr>
              <a:t>Фокстерье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4" descr="1078714717_l[1].jpg"/>
          <p:cNvPicPr/>
          <p:nvPr/>
        </p:nvPicPr>
        <p:blipFill>
          <a:blip r:embed="rId1"/>
          <a:stretch/>
        </p:blipFill>
        <p:spPr>
          <a:xfrm>
            <a:off x="0" y="17640"/>
            <a:ext cx="9191520" cy="6840360"/>
          </a:xfrm>
          <a:prstGeom prst="rect">
            <a:avLst/>
          </a:prstGeom>
          <a:ln w="0">
            <a:noFill/>
          </a:ln>
        </p:spPr>
      </p:pic>
      <p:sp>
        <p:nvSpPr>
          <p:cNvPr id="289" name="Выгнутая вправо стрелка 5"/>
          <p:cNvSpPr/>
          <p:nvPr/>
        </p:nvSpPr>
        <p:spPr>
          <a:xfrm>
            <a:off x="7786800" y="5572080"/>
            <a:ext cx="1143000" cy="7858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22760 h 785880"/>
              <a:gd name="textAreaBottom" fmla="*/ 5648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49298"/>
                <a:lnTo>
                  <a:pt x="3713" y="21500"/>
                </a:lnTo>
                <a:lnTo>
                  <a:pt x="0" y="16200"/>
                </a:lnTo>
                <a:lnTo>
                  <a:pt x="3713" y="10700"/>
                </a:lnTo>
                <a:lnTo>
                  <a:pt x="3713" y="13400"/>
                </a:lnTo>
                <a:arcTo wR="21600" hR="6750" stAng="3649298" swAng="-3183312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500040" y="192888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…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в рассказе А. Чехов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«Дама с собачкой»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7"/>
          <p:cNvSpPr/>
          <p:nvPr/>
        </p:nvSpPr>
        <p:spPr>
          <a:xfrm>
            <a:off x="3214800" y="4929120"/>
            <a:ext cx="27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imes New Roman"/>
              </a:rPr>
              <a:t>Шпи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1" descr="0_550ac_538de22a_L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Выгнутая вправо стрелка 2"/>
          <p:cNvSpPr/>
          <p:nvPr/>
        </p:nvSpPr>
        <p:spPr>
          <a:xfrm>
            <a:off x="7572240" y="5214960"/>
            <a:ext cx="1143000" cy="92880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45080 h 928800"/>
              <a:gd name="textAreaBottom" fmla="*/ 6678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385522"/>
                <a:lnTo>
                  <a:pt x="4387" y="21459"/>
                </a:lnTo>
                <a:lnTo>
                  <a:pt x="0" y="16200"/>
                </a:lnTo>
                <a:lnTo>
                  <a:pt x="4387" y="10659"/>
                </a:lnTo>
                <a:lnTo>
                  <a:pt x="4387" y="13359"/>
                </a:lnTo>
                <a:arcTo wR="21600" hR="6750" stAng="3385522" swAng="-291953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3"/>
          <p:cNvSpPr/>
          <p:nvPr/>
        </p:nvSpPr>
        <p:spPr>
          <a:xfrm>
            <a:off x="214200" y="357120"/>
            <a:ext cx="8215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Мифическая овечья шкура, за которой герои совершили путешествие в Колхид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4"/>
          <p:cNvSpPr/>
          <p:nvPr/>
        </p:nvSpPr>
        <p:spPr>
          <a:xfrm>
            <a:off x="3511440" y="4143240"/>
            <a:ext cx="184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Times New Roman"/>
              </a:rPr>
              <a:t>Рун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1" descr="0_550ac_538de22a_L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Выгнутая вправо стрелка 2"/>
          <p:cNvSpPr/>
          <p:nvPr/>
        </p:nvSpPr>
        <p:spPr>
          <a:xfrm>
            <a:off x="7572240" y="5214960"/>
            <a:ext cx="1143000" cy="92880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45080 h 928800"/>
              <a:gd name="textAreaBottom" fmla="*/ 6678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385522"/>
                <a:lnTo>
                  <a:pt x="4387" y="21459"/>
                </a:lnTo>
                <a:lnTo>
                  <a:pt x="0" y="16200"/>
                </a:lnTo>
                <a:lnTo>
                  <a:pt x="4387" y="10659"/>
                </a:lnTo>
                <a:lnTo>
                  <a:pt x="4387" y="13359"/>
                </a:lnTo>
                <a:arcTo wR="21600" hR="6750" stAng="3385522" swAng="-291953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214200" y="357120"/>
            <a:ext cx="8215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Кем был сын Тифона и Ехидны, каждый день прилетавший, чтобы выклевать Прометею печень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3071880" y="4143240"/>
            <a:ext cx="25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Times New Roman"/>
              </a:rPr>
              <a:t>Орло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0_550ac_538de22a_L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Выгнутая вправо стрелка 2"/>
          <p:cNvSpPr/>
          <p:nvPr/>
        </p:nvSpPr>
        <p:spPr>
          <a:xfrm>
            <a:off x="7572240" y="5214960"/>
            <a:ext cx="1143000" cy="92880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45080 h 928800"/>
              <a:gd name="textAreaBottom" fmla="*/ 6678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385522"/>
                <a:lnTo>
                  <a:pt x="4387" y="21459"/>
                </a:lnTo>
                <a:lnTo>
                  <a:pt x="0" y="16200"/>
                </a:lnTo>
                <a:lnTo>
                  <a:pt x="4387" y="10659"/>
                </a:lnTo>
                <a:lnTo>
                  <a:pt x="4387" y="13359"/>
                </a:lnTo>
                <a:arcTo wR="21600" hR="6750" stAng="3385522" swAng="-291953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3"/>
          <p:cNvSpPr/>
          <p:nvPr/>
        </p:nvSpPr>
        <p:spPr>
          <a:xfrm>
            <a:off x="214200" y="357120"/>
            <a:ext cx="821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Кто всегда будил Гелиоса, побуждая его выехать на небосвод в своей огненной колесниц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2928960" y="4143240"/>
            <a:ext cx="25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Times New Roman"/>
              </a:rPr>
              <a:t>Пету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Рисунок 1" descr="0_550ac_538de22a_L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Выгнутая вправо стрелка 2"/>
          <p:cNvSpPr/>
          <p:nvPr/>
        </p:nvSpPr>
        <p:spPr>
          <a:xfrm>
            <a:off x="7572240" y="5214960"/>
            <a:ext cx="1143000" cy="92880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45080 h 928800"/>
              <a:gd name="textAreaBottom" fmla="*/ 6678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385522"/>
                <a:lnTo>
                  <a:pt x="4387" y="21459"/>
                </a:lnTo>
                <a:lnTo>
                  <a:pt x="0" y="16200"/>
                </a:lnTo>
                <a:lnTo>
                  <a:pt x="4387" y="10659"/>
                </a:lnTo>
                <a:lnTo>
                  <a:pt x="4387" y="13359"/>
                </a:lnTo>
                <a:arcTo wR="21600" hR="6750" stAng="3385522" swAng="-291953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214200" y="357120"/>
            <a:ext cx="8215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В честь 1 подвига Геракла(он победил страшного льва, руками разорвав ему пасть) богиня Флора назвала цветок, известный нам как соба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1143000" y="4929120"/>
            <a:ext cx="607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Times New Roman"/>
              </a:rPr>
              <a:t>Львиный зе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1" descr="0_550ac_538de22a_L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Выгнутая вправо стрелка 2"/>
          <p:cNvSpPr/>
          <p:nvPr/>
        </p:nvSpPr>
        <p:spPr>
          <a:xfrm>
            <a:off x="7572240" y="5214960"/>
            <a:ext cx="1143000" cy="92880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45080 h 928800"/>
              <a:gd name="textAreaBottom" fmla="*/ 6678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385522"/>
                <a:lnTo>
                  <a:pt x="4387" y="21459"/>
                </a:lnTo>
                <a:lnTo>
                  <a:pt x="0" y="16200"/>
                </a:lnTo>
                <a:lnTo>
                  <a:pt x="4387" y="10659"/>
                </a:lnTo>
                <a:lnTo>
                  <a:pt x="4387" y="13359"/>
                </a:lnTo>
                <a:arcTo wR="21600" hR="6750" stAng="3385522" swAng="-291953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214200" y="357120"/>
            <a:ext cx="8215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В кого была превращена царская дочь Арахна за то, что та вызвала на соревнование саму богиню рукоделий - Афин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3286080" y="4143240"/>
            <a:ext cx="30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Times New Roman"/>
              </a:rPr>
              <a:t>В пау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846920" cy="33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Рог носорога представляет собой не кость, а особый нарост из плотно сросшихся волоскообразных волок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0000"/>
                </a:solidFill>
                <a:latin typeface="Times New Roman"/>
              </a:rPr>
              <a:t>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Выгнутая вправо стрелка 5">
            <a:hlinkClick r:id="rId2" action="ppaction://hlinksldjump"/>
          </p:cNvPr>
          <p:cNvSpPr/>
          <p:nvPr/>
        </p:nvSpPr>
        <p:spPr>
          <a:xfrm>
            <a:off x="7429680" y="5357880"/>
            <a:ext cx="857160" cy="857160"/>
          </a:xfrm>
          <a:custGeom>
            <a:avLst/>
            <a:gdLst>
              <a:gd name="textAreaLeft" fmla="*/ 114840 w 857160"/>
              <a:gd name="textAreaRight" fmla="*/ 742320 w 857160"/>
              <a:gd name="textAreaTop" fmla="*/ 133920 h 857160"/>
              <a:gd name="textAreaBottom" fmla="*/ 616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26114"/>
                <a:lnTo>
                  <a:pt x="5400" y="21386"/>
                </a:lnTo>
                <a:lnTo>
                  <a:pt x="0" y="16200"/>
                </a:lnTo>
                <a:lnTo>
                  <a:pt x="5400" y="10586"/>
                </a:lnTo>
                <a:lnTo>
                  <a:pt x="5400" y="13286"/>
                </a:lnTo>
                <a:arcTo wR="21600" hR="6750" stAng="3026114" swAng="-256012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1" descr="16-12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Выгнутая вправо стрелка 2"/>
          <p:cNvSpPr/>
          <p:nvPr/>
        </p:nvSpPr>
        <p:spPr>
          <a:xfrm>
            <a:off x="7643880" y="5572080"/>
            <a:ext cx="1071360" cy="785880"/>
          </a:xfrm>
          <a:custGeom>
            <a:avLst/>
            <a:gdLst>
              <a:gd name="textAreaLeft" fmla="*/ 143280 w 1071360"/>
              <a:gd name="textAreaRight" fmla="*/ 928080 w 1071360"/>
              <a:gd name="textAreaTop" fmla="*/ 122760 h 785880"/>
              <a:gd name="textAreaBottom" fmla="*/ 5648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50321"/>
                <a:lnTo>
                  <a:pt x="3960" y="21486"/>
                </a:lnTo>
                <a:lnTo>
                  <a:pt x="0" y="16200"/>
                </a:lnTo>
                <a:lnTo>
                  <a:pt x="3960" y="10686"/>
                </a:lnTo>
                <a:lnTo>
                  <a:pt x="3960" y="13386"/>
                </a:lnTo>
                <a:arcTo wR="21600" hR="6750" stAng="3550321" swAng="-3084335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285840" y="50004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imes New Roman"/>
              </a:rPr>
              <a:t>Какие дрова горят самым жарким пламенем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857160" y="4143240"/>
            <a:ext cx="77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Дубовые, берёзовы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Рисунок 1" descr="16-12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Выгнутая вправо стрелка 2"/>
          <p:cNvSpPr/>
          <p:nvPr/>
        </p:nvSpPr>
        <p:spPr>
          <a:xfrm>
            <a:off x="7643880" y="5572080"/>
            <a:ext cx="1071360" cy="785880"/>
          </a:xfrm>
          <a:custGeom>
            <a:avLst/>
            <a:gdLst>
              <a:gd name="textAreaLeft" fmla="*/ 143280 w 1071360"/>
              <a:gd name="textAreaRight" fmla="*/ 928080 w 1071360"/>
              <a:gd name="textAreaTop" fmla="*/ 122760 h 785880"/>
              <a:gd name="textAreaBottom" fmla="*/ 5648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50321"/>
                <a:lnTo>
                  <a:pt x="3960" y="21486"/>
                </a:lnTo>
                <a:lnTo>
                  <a:pt x="0" y="16200"/>
                </a:lnTo>
                <a:lnTo>
                  <a:pt x="3960" y="10686"/>
                </a:lnTo>
                <a:lnTo>
                  <a:pt x="3960" y="13386"/>
                </a:lnTo>
                <a:arcTo wR="21600" hR="6750" stAng="3550321" swAng="-3084335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285840" y="85716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imes New Roman"/>
              </a:rPr>
              <a:t>Листья каких деревьев осенью краснеют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500040" y="4071960"/>
            <a:ext cx="814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Рябины, осины, клён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1" descr="16-12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Выгнутая вправо стрелка 2"/>
          <p:cNvSpPr/>
          <p:nvPr/>
        </p:nvSpPr>
        <p:spPr>
          <a:xfrm>
            <a:off x="7643880" y="5572080"/>
            <a:ext cx="1071360" cy="785880"/>
          </a:xfrm>
          <a:custGeom>
            <a:avLst/>
            <a:gdLst>
              <a:gd name="textAreaLeft" fmla="*/ 143280 w 1071360"/>
              <a:gd name="textAreaRight" fmla="*/ 928080 w 1071360"/>
              <a:gd name="textAreaTop" fmla="*/ 122760 h 785880"/>
              <a:gd name="textAreaBottom" fmla="*/ 5648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50321"/>
                <a:lnTo>
                  <a:pt x="3960" y="21486"/>
                </a:lnTo>
                <a:lnTo>
                  <a:pt x="0" y="16200"/>
                </a:lnTo>
                <a:lnTo>
                  <a:pt x="3960" y="10686"/>
                </a:lnTo>
                <a:lnTo>
                  <a:pt x="3960" y="13386"/>
                </a:lnTo>
                <a:arcTo wR="21600" hR="6750" stAng="3550321" swAng="-3084335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285840" y="500040"/>
            <a:ext cx="8215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imes New Roman"/>
              </a:rPr>
              <a:t>Фальшивку и подделку называют именем такого прекрасного дерева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3429000" y="4143240"/>
            <a:ext cx="300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Лип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Рисунок 1" descr="16-12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Выгнутая вправо стрелка 2"/>
          <p:cNvSpPr/>
          <p:nvPr/>
        </p:nvSpPr>
        <p:spPr>
          <a:xfrm>
            <a:off x="7643880" y="5572080"/>
            <a:ext cx="1071360" cy="785880"/>
          </a:xfrm>
          <a:custGeom>
            <a:avLst/>
            <a:gdLst>
              <a:gd name="textAreaLeft" fmla="*/ 143280 w 1071360"/>
              <a:gd name="textAreaRight" fmla="*/ 928080 w 1071360"/>
              <a:gd name="textAreaTop" fmla="*/ 122760 h 785880"/>
              <a:gd name="textAreaBottom" fmla="*/ 5648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50321"/>
                <a:lnTo>
                  <a:pt x="3960" y="21486"/>
                </a:lnTo>
                <a:lnTo>
                  <a:pt x="0" y="16200"/>
                </a:lnTo>
                <a:lnTo>
                  <a:pt x="3960" y="10686"/>
                </a:lnTo>
                <a:lnTo>
                  <a:pt x="3960" y="13386"/>
                </a:lnTo>
                <a:arcTo wR="21600" hR="6750" stAng="3550321" swAng="-3084335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285840" y="500040"/>
            <a:ext cx="8215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imes New Roman"/>
              </a:rPr>
              <a:t>Какое растение кормит, лечит, одевает, наказывает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2786040" y="3929040"/>
            <a:ext cx="407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Крапив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16-12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Выгнутая вправо стрелка 2"/>
          <p:cNvSpPr/>
          <p:nvPr/>
        </p:nvSpPr>
        <p:spPr>
          <a:xfrm>
            <a:off x="7643880" y="5572080"/>
            <a:ext cx="1071360" cy="785880"/>
          </a:xfrm>
          <a:custGeom>
            <a:avLst/>
            <a:gdLst>
              <a:gd name="textAreaLeft" fmla="*/ 143280 w 1071360"/>
              <a:gd name="textAreaRight" fmla="*/ 928080 w 1071360"/>
              <a:gd name="textAreaTop" fmla="*/ 122760 h 785880"/>
              <a:gd name="textAreaBottom" fmla="*/ 5648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50321"/>
                <a:lnTo>
                  <a:pt x="3960" y="21486"/>
                </a:lnTo>
                <a:lnTo>
                  <a:pt x="0" y="16200"/>
                </a:lnTo>
                <a:lnTo>
                  <a:pt x="3960" y="10686"/>
                </a:lnTo>
                <a:lnTo>
                  <a:pt x="3960" y="13386"/>
                </a:lnTo>
                <a:arcTo wR="21600" hR="6750" stAng="3550321" swAng="-3084335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285840" y="500040"/>
            <a:ext cx="82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imes New Roman"/>
              </a:rPr>
              <a:t>Судя по названию, это растение ядовито для животных. А вот люди считают его лекарственны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2928960" y="5286240"/>
            <a:ext cx="46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Зверобо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10"/>
          <p:cNvSpPr txBox="1"/>
          <p:nvPr/>
        </p:nvSpPr>
        <p:spPr>
          <a:xfrm>
            <a:off x="1785960" y="1214280"/>
            <a:ext cx="6786720" cy="392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у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Гиппология – это наука о гиппопотамах (бегемотах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00120" y="2928960"/>
            <a:ext cx="640080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0000"/>
                </a:solidFill>
                <a:latin typeface="Times New Roman"/>
              </a:rPr>
              <a:t>Не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(это наука о лошадях, ныне – коневодств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Выгнутая вправо стрелка 5">
            <a:hlinkClick r:id="rId2" action="ppaction://hlinksldjump"/>
          </p:cNvPr>
          <p:cNvSpPr/>
          <p:nvPr/>
        </p:nvSpPr>
        <p:spPr>
          <a:xfrm>
            <a:off x="7929720" y="5572080"/>
            <a:ext cx="571320" cy="785880"/>
          </a:xfrm>
          <a:custGeom>
            <a:avLst/>
            <a:gdLst>
              <a:gd name="textAreaLeft" fmla="*/ 76320 w 571320"/>
              <a:gd name="textAreaRight" fmla="*/ 495000 w 571320"/>
              <a:gd name="textAreaTop" fmla="*/ 142920 h 785880"/>
              <a:gd name="textAreaBottom" fmla="*/ 5716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55" stAng="-5400000" swAng="5400000"/>
                <a:lnTo>
                  <a:pt x="21600" y="11782"/>
                </a:lnTo>
                <a:arcTo wR="21600" hR="7855" stAng="0" swAng="3277398"/>
                <a:lnTo>
                  <a:pt x="5400" y="21351"/>
                </a:lnTo>
                <a:lnTo>
                  <a:pt x="0" y="17673"/>
                </a:lnTo>
                <a:lnTo>
                  <a:pt x="5400" y="13496"/>
                </a:lnTo>
                <a:lnTo>
                  <a:pt x="5400" y="15460"/>
                </a:lnTo>
                <a:arcTo wR="21600" hR="7855" stAng="3277398" swAng="-2955593"/>
                <a:lnTo>
                  <a:pt x="20914" y="9818"/>
                </a:lnTo>
                <a:arcTo wR="21600" hR="7855" stAng="-321805" swAng="-5078195"/>
                <a:close/>
              </a:path>
              <a:path fill="darkenLess" w="21600" h="21600">
                <a:moveTo>
                  <a:pt x="0" y="0"/>
                </a:moveTo>
                <a:arcTo wR="21600" hR="7855" stAng="-5400000" swAng="5400000"/>
                <a:lnTo>
                  <a:pt x="21600" y="11782"/>
                </a:lnTo>
                <a:arcTo wR="21600" hR="7855" stAng="0" swAng="-321805"/>
                <a:lnTo>
                  <a:pt x="20914" y="9818"/>
                </a:lnTo>
                <a:arcTo wR="21600" hR="7855" stAng="-321805" swAng="-507819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989840" cy="32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 Англии на некоторых почтах в качестве служащих числятся кошки, которые ловят мышей, чтобы те не поедали посылки и не грызли письма. Работающим английским кошкам платят жал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0000"/>
                </a:solidFill>
                <a:latin typeface="Times New Roman"/>
              </a:rPr>
              <a:t>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Выгнутая вправо стрелка 5">
            <a:hlinkClick r:id="rId2" action="ppaction://hlinksldjump"/>
          </p:cNvPr>
          <p:cNvSpPr/>
          <p:nvPr/>
        </p:nvSpPr>
        <p:spPr>
          <a:xfrm>
            <a:off x="7643880" y="5357880"/>
            <a:ext cx="714240" cy="785880"/>
          </a:xfrm>
          <a:custGeom>
            <a:avLst/>
            <a:gdLst>
              <a:gd name="textAreaLeft" fmla="*/ 95400 w 714240"/>
              <a:gd name="textAreaRight" fmla="*/ 618840 w 714240"/>
              <a:gd name="textAreaTop" fmla="*/ 129240 h 785880"/>
              <a:gd name="textAreaBottom" fmla="*/ 5673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18" stAng="-5400000" swAng="5400000"/>
                <a:lnTo>
                  <a:pt x="21600" y="12028"/>
                </a:lnTo>
                <a:arcTo wR="21600" hR="7118" stAng="0" swAng="3115235"/>
                <a:lnTo>
                  <a:pt x="5400" y="21374"/>
                </a:lnTo>
                <a:lnTo>
                  <a:pt x="0" y="16691"/>
                </a:lnTo>
                <a:lnTo>
                  <a:pt x="5400" y="11556"/>
                </a:lnTo>
                <a:lnTo>
                  <a:pt x="5400" y="14010"/>
                </a:lnTo>
                <a:arcTo wR="21600" hR="7118" stAng="3115235" swAng="-2700984"/>
                <a:lnTo>
                  <a:pt x="20275" y="9573"/>
                </a:lnTo>
                <a:arcTo wR="21600" hR="7118" stAng="-414251" swAng="-4985749"/>
                <a:close/>
              </a:path>
              <a:path fill="darkenLess" w="21600" h="21600">
                <a:moveTo>
                  <a:pt x="0" y="0"/>
                </a:moveTo>
                <a:arcTo wR="21600" hR="7118" stAng="-5400000" swAng="5400000"/>
                <a:lnTo>
                  <a:pt x="21600" y="12028"/>
                </a:lnTo>
                <a:arcTo wR="21600" hR="7118" stAng="0" swAng="-414251"/>
                <a:lnTo>
                  <a:pt x="20275" y="9573"/>
                </a:lnTo>
                <a:arcTo wR="21600" hR="7118" stAng="-414251" swAng="-4985749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4" descr="wallpaper1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6"/>
          <p:cNvSpPr/>
          <p:nvPr/>
        </p:nvSpPr>
        <p:spPr>
          <a:xfrm>
            <a:off x="500040" y="3143160"/>
            <a:ext cx="792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акое животное, если ему становится трудно дышать из-за песчаных бурь, может почти совсем сомкнуть ноздр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3143160" y="1928880"/>
            <a:ext cx="32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Верблю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Выгнутая вправо стрелка 8">
            <a:hlinkClick r:id="rId2" action="ppaction://hlinksldjump"/>
          </p:cNvPr>
          <p:cNvSpPr/>
          <p:nvPr/>
        </p:nvSpPr>
        <p:spPr>
          <a:xfrm>
            <a:off x="7786800" y="5500800"/>
            <a:ext cx="857160" cy="714240"/>
          </a:xfrm>
          <a:custGeom>
            <a:avLst/>
            <a:gdLst>
              <a:gd name="textAreaLeft" fmla="*/ 114840 w 857160"/>
              <a:gd name="textAreaRight" fmla="*/ 742320 w 857160"/>
              <a:gd name="textAreaTop" fmla="*/ 111600 h 714240"/>
              <a:gd name="textAreaBottom" fmla="*/ 5133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343246"/>
                <a:lnTo>
                  <a:pt x="4500" y="21452"/>
                </a:lnTo>
                <a:lnTo>
                  <a:pt x="0" y="16200"/>
                </a:lnTo>
                <a:lnTo>
                  <a:pt x="4500" y="10652"/>
                </a:lnTo>
                <a:lnTo>
                  <a:pt x="4500" y="13352"/>
                </a:lnTo>
                <a:arcTo wR="21600" hR="6750" stAng="3343246" swAng="-287726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wallpaper1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1214280" y="3857760"/>
            <a:ext cx="70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акая змея умеет свивать гнездо из…….своего тел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1857240" y="257184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Тигровый пито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Выгнутая вправо стрелка 6">
            <a:hlinkClick r:id="rId2" action="ppaction://hlinksldjump"/>
          </p:cNvPr>
          <p:cNvSpPr/>
          <p:nvPr/>
        </p:nvSpPr>
        <p:spPr>
          <a:xfrm>
            <a:off x="8001000" y="5500800"/>
            <a:ext cx="785880" cy="857160"/>
          </a:xfrm>
          <a:custGeom>
            <a:avLst/>
            <a:gdLst>
              <a:gd name="textAreaLeft" fmla="*/ 105120 w 785880"/>
              <a:gd name="textAreaRight" fmla="*/ 680760 w 785880"/>
              <a:gd name="textAreaTop" fmla="*/ 140400 h 857160"/>
              <a:gd name="textAreaBottom" fmla="*/ 61848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88" stAng="-5400000" swAng="5400000"/>
                <a:lnTo>
                  <a:pt x="21600" y="12038"/>
                </a:lnTo>
                <a:arcTo wR="21600" hR="7088" stAng="0" swAng="3108065"/>
                <a:lnTo>
                  <a:pt x="5400" y="21375"/>
                </a:lnTo>
                <a:lnTo>
                  <a:pt x="0" y="16650"/>
                </a:lnTo>
                <a:lnTo>
                  <a:pt x="5400" y="11475"/>
                </a:lnTo>
                <a:lnTo>
                  <a:pt x="5400" y="13950"/>
                </a:lnTo>
                <a:arcTo wR="21600" hR="7088" stAng="3108065" swAng="-2689769"/>
                <a:lnTo>
                  <a:pt x="20240" y="9563"/>
                </a:lnTo>
                <a:arcTo wR="21600" hR="7088" stAng="-418296" swAng="-4981704"/>
                <a:close/>
              </a:path>
              <a:path fill="darkenLess" w="21600" h="21600">
                <a:moveTo>
                  <a:pt x="0" y="0"/>
                </a:moveTo>
                <a:arcTo wR="21600" hR="7088" stAng="-5400000" swAng="5400000"/>
                <a:lnTo>
                  <a:pt x="21600" y="12038"/>
                </a:lnTo>
                <a:arcTo wR="21600" hR="7088" stAng="0" swAng="-418296"/>
                <a:lnTo>
                  <a:pt x="20240" y="9563"/>
                </a:lnTo>
                <a:arcTo wR="21600" hR="7088" stAng="-418296" swAng="-498170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5:38:19Z</dcterms:created>
  <dc:creator>K33</dc:creator>
  <dc:description/>
  <dc:language>en-US</dc:language>
  <cp:lastModifiedBy>Дмас</cp:lastModifiedBy>
  <dcterms:modified xsi:type="dcterms:W3CDTF">2012-05-02T15:49:01Z</dcterms:modified>
  <cp:revision>74</cp:revision>
  <dc:subject/>
  <dc:title>Слайд 1</dc:title>
</cp:coreProperties>
</file>